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703-8A1F-417A-BFC4-62B0578B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DD4-8A28-4733-956B-3F4EB40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E86-1B30-4313-9D90-6CC7DCF5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33D-CDCD-4168-944F-8D1339A5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9F66-064C-4EF4-8B78-F674AC68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181B-9C11-43E3-9748-9E20E60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C10-2C9E-4984-8095-482F06B9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A9CA-B2F4-4108-8977-C1BED791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D39-5B41-4767-ABEA-F7EF1AE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6EDD-8A47-4A56-A590-74C8FF32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1FD4-564C-473D-B862-C7AFAAB2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77D-F4F6-48F2-BA55-AE65666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A357-0C1D-49BB-8E2E-78A727C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3CBC-B928-47B6-8870-47100AB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352B-E08A-4887-A4DF-316E1BEB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575-6540-4FC6-91C5-E6EB5143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A61E-6A8A-4D8A-97BB-0DF2F941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4B7-5098-43DB-B163-262AEAB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029-0B28-4F2B-9054-7A4ABABC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0F0-7F69-47D4-A5FB-AD477919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33E-8F03-4799-A600-A42E9ED5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CD0-EA88-4829-9358-ADC2442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37F-786C-4895-8116-D816F5D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2B4-6629-4CD2-9520-D87CBE2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E9F-991A-4BAC-B8C2-7214331F21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4AC-B591-4C4F-ABBF-EAE982C329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d469b"/>
                </a:solidFill>
                <a:latin typeface="Book Antiqua"/>
              </a:rPr>
              <a:t>Grades 7/8 Breakout Session 3B&amp;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effective 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 develop 3-4 common questions for the parallel task generated earli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common questions with the other partner pair at your table.  Provide partner pair with specific criteria-based feedback on common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text book problem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arallel task for the problem with common debriefing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mathematical processes generate questions to scaffold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professional learning log: Write a reflection about how parallel tasks can be used to support all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s On – Painted Porch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– Analyzing a task, creating a parallel task based on the original task, generate strategies for scaffolding, and develop comm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e – Creating a parallel task, scaffolding and common debrief questions for a text book ques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e the painted porch problem in as many ways as you can. Use concrete, pictorial, table, graphical, numerical, and algebraic representation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prepared to sh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have 35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groups identify the curriculum expectations, Big Idea, and lesson goals for the task that you have just s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areas of difficulty for students trying to solve the sam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groups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possible difficulties identified in the previous task create a parallel task that addresses on area of identified difficul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your parallel task differentiate based on anticipated difficulti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e seven mathematical process in the curriculum doc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your table discuss the follow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mathematical process did you use to solve the problem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d the problem elicit some processes more than other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TIPS4RM Mathematical Process document provided identify some questions and strategies to support learners who are struggling with the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the potential student difficulties identified earlier, create some task specific promp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oy a wonderful brea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three sets of parallel task and questions from Marion Small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ource. As a small group discuss what makes the common questions effec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share as we develop an anchor chart for criteria for effective common debrief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KPRUser</cp:lastModifiedBy>
  <dcterms:modified xsi:type="dcterms:W3CDTF">2010-08-16T21:56:49Z</dcterms:modified>
  <cp:revision>137</cp:revision>
  <dc:subject/>
  <dc:title>Slide 1</dc:title>
</cp:coreProperties>
</file>